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77374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18920" y="3922200"/>
            <a:ext cx="77374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892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5040" y="161928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1160" y="161928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18920" y="392220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5040" y="392220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1160" y="392220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8920" y="718920"/>
            <a:ext cx="77374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1892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8920" y="3922200"/>
            <a:ext cx="77374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77374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18920" y="3922200"/>
            <a:ext cx="77374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1892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5040" y="161928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51160" y="161928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18920" y="392220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5040" y="392220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51160" y="3922200"/>
            <a:ext cx="249120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18920" y="718920"/>
            <a:ext cx="773748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892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0" y="392220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1892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0" y="1619280"/>
            <a:ext cx="37756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18920" y="3922200"/>
            <a:ext cx="7737480" cy="2102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3"/>
          <p:cNvSpPr/>
          <p:nvPr/>
        </p:nvSpPr>
        <p:spPr>
          <a:xfrm>
            <a:off x="5757840" y="6334200"/>
            <a:ext cx="1619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DRK-Landesverband</a:t>
            </a:r>
            <a:br>
              <a:rPr sz="700"/>
            </a:b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Nordrhein e.V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1001"/>
              </a:spcBef>
              <a:buClr>
                <a:srgbClr val="b2b2b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9" descr=""/>
          <p:cNvPicPr/>
          <p:nvPr/>
        </p:nvPicPr>
        <p:blipFill>
          <a:blip r:embed="rId2"/>
          <a:stretch/>
        </p:blipFill>
        <p:spPr>
          <a:xfrm>
            <a:off x="7543800" y="6386400"/>
            <a:ext cx="890640" cy="284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64"/>
          <p:cNvSpPr/>
          <p:nvPr/>
        </p:nvSpPr>
        <p:spPr>
          <a:xfrm>
            <a:off x="719280" y="6207120"/>
            <a:ext cx="7737480" cy="9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26640" bIns="-266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65"/>
          <p:cNvSpPr/>
          <p:nvPr/>
        </p:nvSpPr>
        <p:spPr>
          <a:xfrm>
            <a:off x="719280" y="1438200"/>
            <a:ext cx="7737480" cy="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26280" bIns="-2628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feld 8"/>
          <p:cNvSpPr/>
          <p:nvPr/>
        </p:nvSpPr>
        <p:spPr>
          <a:xfrm>
            <a:off x="1619280" y="6453360"/>
            <a:ext cx="37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gebnis „Personalmanagement Pflege“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8" descr=""/>
          <p:cNvPicPr/>
          <p:nvPr/>
        </p:nvPicPr>
        <p:blipFill>
          <a:blip r:embed="rId2"/>
          <a:stretch/>
        </p:blipFill>
        <p:spPr>
          <a:xfrm>
            <a:off x="6754680" y="719280"/>
            <a:ext cx="1694160" cy="539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3"/>
          <p:cNvSpPr/>
          <p:nvPr/>
        </p:nvSpPr>
        <p:spPr>
          <a:xfrm>
            <a:off x="719280" y="3957480"/>
            <a:ext cx="7700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76"/>
          <p:cNvSpPr/>
          <p:nvPr/>
        </p:nvSpPr>
        <p:spPr>
          <a:xfrm>
            <a:off x="719280" y="682560"/>
            <a:ext cx="5529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DRK-Landesverband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Nordrhein e.V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83"/>
          <p:cNvSpPr/>
          <p:nvPr/>
        </p:nvSpPr>
        <p:spPr>
          <a:xfrm>
            <a:off x="719280" y="6207120"/>
            <a:ext cx="7737480" cy="9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26640" bIns="-266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84"/>
          <p:cNvSpPr/>
          <p:nvPr/>
        </p:nvSpPr>
        <p:spPr>
          <a:xfrm>
            <a:off x="719280" y="1438200"/>
            <a:ext cx="7737480" cy="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26280" bIns="-2628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1001"/>
              </a:spcBef>
              <a:buClr>
                <a:srgbClr val="b2b2b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1001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Projektgruppe.doc" TargetMode="External"/><Relationship Id="rId3" Type="http://schemas.openxmlformats.org/officeDocument/2006/relationships/hyperlink" Target="file:///Empfehlung.doc" TargetMode="External"/><Relationship Id="rId4" Type="http://schemas.openxmlformats.org/officeDocument/2006/relationships/hyperlink" Target="file:///12-07-10_Vorlage-VG%20NR_PersoMan_final.1.doc" TargetMode="External"/><Relationship Id="rId5" Type="http://schemas.openxmlformats.org/officeDocument/2006/relationships/hyperlink" Target="file:///Beschluss.doc" TargetMode="External"/><Relationship Id="rId6" Type="http://schemas.openxmlformats.org/officeDocument/2006/relationships/hyperlink" Target="file:///12-11-06_Handreichung%20PersoMan-VG-Land%20vom%2021.08.2012.doc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8920" y="1916280"/>
            <a:ext cx="7737480" cy="30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ersonalmanagement“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onalgewinnung, Personalbindung, Personalförderu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619280" y="5300640"/>
            <a:ext cx="6118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950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nd :  November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18920" y="1619280"/>
            <a:ext cx="7737480" cy="4408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 Black"/>
              </a:rPr>
              <a:t>Herzlichen Dank für die Aufmerksamke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gangslage / Impu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6"/>
          <p:cNvSpPr/>
          <p:nvPr/>
        </p:nvSpPr>
        <p:spPr>
          <a:xfrm>
            <a:off x="684360" y="1413000"/>
            <a:ext cx="777528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demografische Wandel in Bezug auf das Schwerpunktthema Alter und Pflege stellt in den nächsten Jahren an alle damit beschäftigten Akteure folgende Herausforderung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Bevölkerung wird zunehmend überaltern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Geburtenrate geht weiter zurüc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Zahl der hilfe- und pflegebedürftigen Menschen wird in d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menden Jahren enorm ansteig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familialen Strukturen werden sich verändern hin zur Singularisieru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bisherigen familialen Netzwerke werden den Versorgungsmange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nicht mehr adäquat ausgleichen könn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Zahl der im pflegerischen und versorgenden Bereich tätig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achkräfte wird rapide sink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Kosten für Dienstleistungen im Bereich der pflegerischen Betreuung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und Versorgung werden zunehme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wicklung der Zahl der Pflegebedürftigen bis 20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gramm 3" descr=""/>
          <p:cNvPicPr/>
          <p:nvPr/>
        </p:nvPicPr>
        <p:blipFill>
          <a:blip r:embed="rId1"/>
          <a:srcRect l="0" t="0" r="0" b="-109"/>
          <a:stretch/>
        </p:blipFill>
        <p:spPr>
          <a:xfrm>
            <a:off x="826920" y="1484280"/>
            <a:ext cx="7274160" cy="4248360"/>
          </a:xfrm>
          <a:prstGeom prst="rect">
            <a:avLst/>
          </a:prstGeom>
          <a:ln w="0">
            <a:noFill/>
          </a:ln>
        </p:spPr>
      </p:pic>
      <p:sp>
        <p:nvSpPr>
          <p:cNvPr id="92" name="Textfeld 3"/>
          <p:cNvSpPr/>
          <p:nvPr/>
        </p:nvSpPr>
        <p:spPr>
          <a:xfrm>
            <a:off x="2484360" y="595008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Statistisches Bundesamt (2009), Bevölkerung Deutschlands bis 2060, S.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718920"/>
            <a:ext cx="7737480" cy="5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wicklung Pflegefachkraftbedarf bis 20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Diagramm 5" descr=""/>
          <p:cNvPicPr/>
          <p:nvPr/>
        </p:nvPicPr>
        <p:blipFill>
          <a:blip r:embed="rId1"/>
          <a:srcRect l="0" t="0" r="0" b="-109"/>
          <a:stretch/>
        </p:blipFill>
        <p:spPr>
          <a:xfrm>
            <a:off x="971640" y="1557360"/>
            <a:ext cx="7272360" cy="4319640"/>
          </a:xfrm>
          <a:prstGeom prst="rect">
            <a:avLst/>
          </a:prstGeom>
          <a:ln w="0">
            <a:noFill/>
          </a:ln>
        </p:spPr>
      </p:pic>
      <p:sp>
        <p:nvSpPr>
          <p:cNvPr id="95" name="Textfeld 4"/>
          <p:cNvSpPr/>
          <p:nvPr/>
        </p:nvSpPr>
        <p:spPr>
          <a:xfrm>
            <a:off x="2484360" y="595008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Statistisches Bundesamt (2009), Bevölkerung Deutschlands bis 2060, S.1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bgerundetes Rechteck 7"/>
          <p:cNvSpPr/>
          <p:nvPr/>
        </p:nvSpPr>
        <p:spPr>
          <a:xfrm>
            <a:off x="611280" y="260280"/>
            <a:ext cx="7775640" cy="488880"/>
          </a:xfrm>
          <a:prstGeom prst="roundRect">
            <a:avLst>
              <a:gd name="adj" fmla="val 16667"/>
            </a:avLst>
          </a:prstGeom>
          <a:solidFill>
            <a:srgbClr val="f81d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3748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erfahrensabla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Diagramm 4" descr=""/>
          <p:cNvPicPr/>
          <p:nvPr/>
        </p:nvPicPr>
        <p:blipFill>
          <a:blip r:embed="rId1"/>
          <a:stretch/>
        </p:blipFill>
        <p:spPr>
          <a:xfrm>
            <a:off x="-6480" y="1560600"/>
            <a:ext cx="9156960" cy="4602240"/>
          </a:xfrm>
          <a:prstGeom prst="rect">
            <a:avLst/>
          </a:prstGeom>
          <a:ln w="0">
            <a:noFill/>
          </a:ln>
        </p:spPr>
      </p:pic>
      <p:sp>
        <p:nvSpPr>
          <p:cNvPr id="99" name="Textfeld 5"/>
          <p:cNvSpPr/>
          <p:nvPr/>
        </p:nvSpPr>
        <p:spPr>
          <a:xfrm>
            <a:off x="6732720" y="21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u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feld 6"/>
          <p:cNvSpPr/>
          <p:nvPr/>
        </p:nvSpPr>
        <p:spPr>
          <a:xfrm>
            <a:off x="676764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auftra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feld 7"/>
          <p:cNvSpPr/>
          <p:nvPr/>
        </p:nvSpPr>
        <p:spPr>
          <a:xfrm>
            <a:off x="468360" y="515772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orlagenentwu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feld 8"/>
          <p:cNvSpPr/>
          <p:nvPr/>
        </p:nvSpPr>
        <p:spPr>
          <a:xfrm>
            <a:off x="250920" y="2060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rgebnis / Empfehlu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feld 9"/>
          <p:cNvSpPr/>
          <p:nvPr/>
        </p:nvSpPr>
        <p:spPr>
          <a:xfrm>
            <a:off x="2862360" y="357336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ersonalmanag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hteck 9"/>
          <p:cNvSpPr/>
          <p:nvPr/>
        </p:nvSpPr>
        <p:spPr>
          <a:xfrm>
            <a:off x="6875640" y="981000"/>
            <a:ext cx="2054160" cy="104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DRK-Kreisverbänd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DRK Landesverban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Arial"/>
              </a:rPr>
              <a:t>Nordrhei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feil nach rechts 10"/>
          <p:cNvSpPr/>
          <p:nvPr/>
        </p:nvSpPr>
        <p:spPr>
          <a:xfrm rot="20493600">
            <a:off x="5447880" y="1537920"/>
            <a:ext cx="1297080" cy="28728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feld 12"/>
          <p:cNvSpPr/>
          <p:nvPr/>
        </p:nvSpPr>
        <p:spPr>
          <a:xfrm>
            <a:off x="5435640" y="5661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2"/>
              </a:rPr>
              <a:t>Projektgruppe.do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feld 14"/>
          <p:cNvSpPr/>
          <p:nvPr/>
        </p:nvSpPr>
        <p:spPr>
          <a:xfrm>
            <a:off x="468360" y="249228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3"/>
              </a:rPr>
              <a:t>Empfehlung.do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feld 16"/>
          <p:cNvSpPr/>
          <p:nvPr/>
        </p:nvSpPr>
        <p:spPr>
          <a:xfrm>
            <a:off x="468360" y="5516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4"/>
              </a:rPr>
              <a:t>12-07-10_Vorlage-VG NR_PersoMan_final.1.do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feld 17"/>
          <p:cNvSpPr/>
          <p:nvPr/>
        </p:nvSpPr>
        <p:spPr>
          <a:xfrm>
            <a:off x="7667640" y="2492280"/>
            <a:ext cx="12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5"/>
              </a:rPr>
              <a:t>Beschluss.do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feld 18"/>
          <p:cNvSpPr/>
          <p:nvPr/>
        </p:nvSpPr>
        <p:spPr>
          <a:xfrm>
            <a:off x="4788000" y="83664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cc9900"/>
                </a:solidFill>
                <a:uFillTx/>
                <a:latin typeface="Arial"/>
                <a:ea typeface="Arial"/>
                <a:hlinkClick r:id="rId6"/>
              </a:rPr>
              <a:t>12-11-06_Handreichung PersoMan-VG-Land vom 21.08.2012.do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73748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gebnisse und Empfehlungen zur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ersonalgewin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50920" y="1125360"/>
          <a:ext cx="8642160" cy="5119920"/>
        </p:xfrm>
        <a:graphic>
          <a:graphicData uri="http://schemas.openxmlformats.org/drawingml/2006/table">
            <a:tbl>
              <a:tblPr/>
              <a:tblGrid>
                <a:gridCol w="5546520"/>
                <a:gridCol w="1067040"/>
                <a:gridCol w="1135080"/>
                <a:gridCol w="893520"/>
              </a:tblGrid>
              <a:tr h="481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ßnahme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fehlung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KV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r LV N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bernahme von Auszubildenden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über den eignen Bedarf hinau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Praxis-Stellen      </a:t>
                      </a: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Koordin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1-06_Handreichung PersoMan-VG-Land vom 21.08.2012.do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peration mit Fachseminare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orhalten fest zu gesicherte Kontingente  an Schulplätzen und Praxisstelle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Praxis-Stellen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peration mit Personaldienstleister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m Bereich Personaleinsatz und Personalsuch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Umsetzung vor Ort      </a:t>
                      </a: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Rahmenvereinbarung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1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ländische Arbeitskräf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meinsame Zusammenarbeit mit einem etablierten und seriösen Anbieter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Klärung / Kooperation / Rahmenvereinbaru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peration mit DRK-Jugendverbänden, -hilfe, -sozialarbeit / Schulen/ Familienbildungswerk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inheitliche Konzeptionierung und gemeinsames Marketingkonzept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Umsetzung vor Ort     </a:t>
                      </a: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Erstellung Konzepte / Materiali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37480" cy="71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rgebnisse und Empfehlungen zur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ersonalbindung und –för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1125360"/>
          <a:ext cx="8496000" cy="5040360"/>
        </p:xfrm>
        <a:graphic>
          <a:graphicData uri="http://schemas.openxmlformats.org/drawingml/2006/table">
            <a:tbl>
              <a:tblPr/>
              <a:tblGrid>
                <a:gridCol w="5040000"/>
                <a:gridCol w="1368720"/>
                <a:gridCol w="1152360"/>
                <a:gridCol w="934920"/>
              </a:tblGrid>
              <a:tr h="557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ßnah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fehlung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KV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r LV N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en-Auslese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fachlich fundierte, konzipierte Assessements für Führungskräfte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Konzeption / Koordination / Durchführung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1-06_Handreichung PersoMan-VG-Land vom 21.08.2012.do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marketing, DRK-inter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nkung von Abwanderungsbewegungen / Gründung eines „</a:t>
                      </a:r>
                      <a:r>
                        <a:rPr b="0" i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rbeiterpools“ =&gt;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tstitel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Konzeption  / Koordin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enfreundliche Arbeitszeiten / Einsatzmodel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tive Einsatzmodelle, flexible Kinderbetreuung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Umsetzung vor O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e Arbeitsumgebu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usreichende  fördernde Sachausstattung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Umsetzung vor Or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undheitsmanag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mittlung von Problemfeldern, gesundheitsfördernde Aktionen und Strategien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= Umsetzung vor Ort   </a:t>
                      </a:r>
                      <a:r>
                        <a:rPr b="0" lang="de-D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=  Bearbeitung übergreifender Theme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7800" y="1557360"/>
            <a:ext cx="7448400" cy="4535640"/>
          </a:xfrm>
          <a:prstGeom prst="rect">
            <a:avLst/>
          </a:prstGeom>
          <a:ln w="0">
            <a:noFill/>
          </a:ln>
        </p:spPr>
      </p:pic>
      <p:sp>
        <p:nvSpPr>
          <p:cNvPr id="116" name="Titel 1"/>
          <p:cNvSpPr/>
          <p:nvPr/>
        </p:nvSpPr>
        <p:spPr>
          <a:xfrm>
            <a:off x="755640" y="476280"/>
            <a:ext cx="773748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amilienfreundliche Arbeitszeit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austellenschild-klein"/>
          <p:cNvPicPr/>
          <p:nvPr/>
        </p:nvPicPr>
        <p:blipFill>
          <a:blip r:embed="rId1"/>
          <a:stretch/>
        </p:blipFill>
        <p:spPr>
          <a:xfrm>
            <a:off x="2556000" y="2781360"/>
            <a:ext cx="181908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Bild7" descr="Baustellenschild-3"/>
          <p:cNvPicPr/>
          <p:nvPr/>
        </p:nvPicPr>
        <p:blipFill>
          <a:blip r:embed="rId2"/>
          <a:stretch/>
        </p:blipFill>
        <p:spPr>
          <a:xfrm>
            <a:off x="684360" y="1628640"/>
            <a:ext cx="2016000" cy="1729080"/>
          </a:xfrm>
          <a:prstGeom prst="rect">
            <a:avLst/>
          </a:prstGeom>
          <a:ln w="0">
            <a:noFill/>
          </a:ln>
        </p:spPr>
      </p:pic>
      <p:pic>
        <p:nvPicPr>
          <p:cNvPr id="119" name="Bild8" descr="Baustellenschild-3"/>
          <p:cNvPicPr/>
          <p:nvPr/>
        </p:nvPicPr>
        <p:blipFill>
          <a:blip r:embed="rId3"/>
          <a:stretch/>
        </p:blipFill>
        <p:spPr>
          <a:xfrm>
            <a:off x="3995640" y="1557360"/>
            <a:ext cx="2160720" cy="1771560"/>
          </a:xfrm>
          <a:prstGeom prst="rect">
            <a:avLst/>
          </a:prstGeom>
          <a:ln w="0">
            <a:noFill/>
          </a:ln>
        </p:spPr>
      </p:pic>
      <p:sp>
        <p:nvSpPr>
          <p:cNvPr id="120" name="Titel 1"/>
          <p:cNvSpPr/>
          <p:nvPr/>
        </p:nvSpPr>
        <p:spPr>
          <a:xfrm>
            <a:off x="755640" y="189000"/>
            <a:ext cx="7737480" cy="11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Personal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rg_hi" descr="http://t1.gstatic.com/images?q=tbn:ANd9GcS_rn-KzESRGz7HV5RXGidZE4yIRWJuh_rcJsM7AdybUcGY09Gn"/>
          <p:cNvPicPr/>
          <p:nvPr/>
        </p:nvPicPr>
        <p:blipFill>
          <a:blip r:embed="rId4"/>
          <a:stretch/>
        </p:blipFill>
        <p:spPr>
          <a:xfrm>
            <a:off x="6084720" y="2421000"/>
            <a:ext cx="2133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3:43:14Z</dcterms:created>
  <dc:creator>m.jansen</dc:creator>
  <dc:description/>
  <dc:language>en-US</dc:language>
  <cp:lastModifiedBy>m.jansen</cp:lastModifiedBy>
  <cp:lastPrinted>2005-11-10T09:47:39Z</cp:lastPrinted>
  <dcterms:modified xsi:type="dcterms:W3CDTF">2012-12-13T09:39:09Z</dcterms:modified>
  <cp:revision>116</cp:revision>
  <dc:subject/>
  <dc:title>Folie 1</dc:title>
</cp:coreProperties>
</file>